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D48-0BAD-40AE-9E32-1F0DDEC5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406-005B-4F5B-94B8-E8FA55B7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71D-692D-4CAA-97B2-C9879244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182-734F-4469-9DFF-BD3AEFD2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F3D2-05EB-4349-9A0A-3EF27FF7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0B9A-A81C-4FA1-86C6-3C6406D8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8351-562B-499E-9271-D6747C48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CE10-185A-4410-AF9B-E1130854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25CF-3E4B-486B-A12C-55EEE221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181D-89E3-40D4-8710-BC4F5E44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9034-A983-424E-A8E4-B7B68886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ADC-20E1-420E-B67A-C1BB7291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A3C0-FB47-49BD-A1AD-6B4FAE8C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6693-C82C-4568-9F35-87E7C4CC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C7D5-6527-48CE-AE5E-41387B6A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9949-E179-4DBD-A0A1-6C3FDE7A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F8A6-A36B-47D0-B77F-DC67470B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9751-9237-45E4-A0C5-04EED327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326-99D1-4783-B41F-6AFA753B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540-44A4-4678-B1B1-8C665C24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8128-104A-4B37-A9D8-FE43D525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5EB5-4832-4DCB-B6E1-EF8FCBF2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C75-7374-47FD-BDB6-DEC5C35C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ECE-B529-4F52-9827-D4AEB97B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B8DB-038B-4B80-9415-B7C0AA6CC8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6B49-6406-43DB-886E-16A0C0649A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600" spc="-1" strike="noStrike">
                <a:solidFill>
                  <a:srgbClr val="330066"/>
                </a:solidFill>
                <a:latin typeface="HY견고딕"/>
                <a:ea typeface="HY견고딕"/>
              </a:rPr>
              <a:t>한국 알리기</a:t>
            </a:r>
            <a:r>
              <a:rPr b="0" lang="en-US" sz="6600" spc="-1" strike="noStrike">
                <a:solidFill>
                  <a:srgbClr val="330066"/>
                </a:solidFill>
                <a:latin typeface="HY견고딕"/>
                <a:ea typeface="HY견고딕"/>
              </a:rPr>
              <a:t>!!</a:t>
            </a:r>
            <a:endParaRPr b="1" lang="en-US" sz="6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0000"/>
                </a:solidFill>
                <a:latin typeface="굴림"/>
              </a:rPr>
              <a:t>일본관광객 유치를 위한 팜플렛을 만들어 봅시다</a:t>
            </a:r>
            <a:r>
              <a:rPr b="1" lang="en-US" sz="3600" spc="-1" strike="noStrike">
                <a:solidFill>
                  <a:srgbClr val="000000"/>
                </a:solidFill>
                <a:latin typeface="굴림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cfile7.uf.tistory.com/image/16294C1F4C0C161D2B56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contents.skylandtour.com/Community/BBS/30/2007/11/26/165037/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2aa521"/>
                </a:solidFill>
                <a:latin typeface="굴림"/>
              </a:rPr>
              <a:t>여행 팜플렛 만들기</a:t>
            </a:r>
            <a:endParaRPr b="1" lang="en-US" sz="54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분량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전지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내용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위치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도시의 특징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진 및 그림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간략한 설명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특산품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먹을 것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볼 것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여행할 때 주의할 점 등등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0000"/>
                </a:solidFill>
                <a:latin typeface="굴림"/>
              </a:rPr>
              <a:t>중요사항</a:t>
            </a:r>
            <a:r>
              <a:rPr b="1" lang="en-US" sz="3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3000" spc="-1" strike="noStrike">
                <a:solidFill>
                  <a:srgbClr val="ff0000"/>
                </a:solidFill>
                <a:latin typeface="굴림"/>
              </a:rPr>
              <a:t>팜플렛을 보고 그곳에 정말 가보고 싶다는 매력을 느낄 수 있도록</a:t>
            </a:r>
            <a:r>
              <a:rPr b="1" lang="en-US" sz="3000" spc="-1" strike="noStrike">
                <a:solidFill>
                  <a:srgbClr val="ff0000"/>
                </a:solidFill>
                <a:latin typeface="굴림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팜플렛 만들기 계획 및 발표 방법 토의하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2:54:02Z</dcterms:created>
  <dc:creator>OWNER</dc:creator>
  <dc:description/>
  <dc:language>en-US</dc:language>
  <cp:lastModifiedBy>배현아</cp:lastModifiedBy>
  <dcterms:modified xsi:type="dcterms:W3CDTF">2012-03-30T00:08:59Z</dcterms:modified>
  <cp:revision>11</cp:revision>
  <dc:subject/>
  <dc:title>슬라이드 1</dc:title>
</cp:coreProperties>
</file>